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A49B-54B9-45BC-8A0B-91B23E88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BCE-C393-4284-A60C-BFD0B2AD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D53-E295-42BE-BF68-E60414C9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A5AE-04C4-4FC5-9C81-1AEB656F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C1C1-0DCD-43F3-B095-B489ABA7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93E3-E1BA-46EB-9EE8-13D94074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8F7C-E36B-4E8B-BAC3-CB0B754B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B322-C165-4365-81E3-42AF7618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DFD9-CE15-4D3C-A39C-D2B63207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2AF7-9931-4FC5-AC06-7D88C1E6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44F5-38EF-4834-9114-3E872F81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B09F-35B3-4095-A9A5-CB4914D7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FFEC-3BFE-47DB-884C-0F3ACE8B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B273-ABBF-4450-80AD-E1526F47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6451-4EAE-4B0B-826F-4ABA357A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5318-6474-44F3-B3DF-76DF1233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88C8-39DF-4DD9-9D69-C3F2C22E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C27-2F55-406B-B03E-93FF8337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452E-E83B-4D2E-8A02-516FBE9F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0CBB-CDA5-42BB-84A5-2CCE03C8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6D8B-FDA8-40C3-991F-3BCD607B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D71A-F393-4A83-816C-C7CED2DD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CBF-20B2-4616-A4CA-EC85D1E1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6210-C1F1-4EB3-A098-234913D2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5CF3-E176-4FDC-9508-F2270F85C7F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EAB4-BFB0-4210-9158-1F3B307ED88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Plane" TargetMode="External"/><Relationship Id="rId3" Type="http://schemas.microsoft.com/office/2007/relationships/media" Target="file:///tmp/home/.config/libreoffice/4/user/gallery/Plane" TargetMode="External"/><Relationship Id="rId4" Type="http://schemas.openxmlformats.org/officeDocument/2006/relationships/image" Target="../media/image4.png"/><Relationship Id="rId5" Type="http://schemas.openxmlformats.org/officeDocument/2006/relationships/video" Target="file:///tmp/home/.config/libreoffice/4/user/gallery/Whoosh" TargetMode="External"/><Relationship Id="rId6" Type="http://schemas.microsoft.com/office/2007/relationships/media" Target="file:///tmp/home/.config/libreoffice/4/user/gallery/Whoosh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elcome Mom and Dad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or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Grade Spring Conferen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rch 20, 2009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3809880" cy="2857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 you for coming!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ny question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7183440" y="300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48720" y="129528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533520" y="12193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Read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01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 skills I have worked on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amma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mmariz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ory Start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rite books I’ve read in clas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ries Of Unfortunate Eve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Mat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16256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th skills that I worked 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arts                                  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gebr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eometry               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y favorite activities to do in math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art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ands On Equatio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ynamat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 rot="18802200">
            <a:off x="7405200" y="472032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,578-6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3344400">
            <a:off x="6018840" y="3428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6+1,2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cience and Social Studi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8195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ircuit buildi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errarium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quariu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cial Scientist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p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ion packe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4352760" y="3613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9" dur="2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61048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Writ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819520"/>
            <a:ext cx="7391520" cy="30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all Wri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anksgiving Wri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ory Starter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3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3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121896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favorite experience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2362320"/>
            <a:ext cx="44956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eld trip to UL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ilding terrariums and aquariu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king U.S. map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ilding circui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108000" y="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5800" y="2736720"/>
            <a:ext cx="3809880" cy="2754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’m good at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362320"/>
            <a:ext cx="716256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 need to work on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23623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p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ri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228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Goals for the next three month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I will improve my spelling by studying harder before tests.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I will improve my reading by reading more books and reading a longer time.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I will improve my writing by writing longer paragraphs. 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13:09Z</dcterms:created>
  <dc:creator>NSSD112</dc:creator>
  <dc:description/>
  <dc:language>en-US</dc:language>
  <cp:lastModifiedBy>nssd112</cp:lastModifiedBy>
  <dcterms:modified xsi:type="dcterms:W3CDTF">2009-03-18T18:31:48Z</dcterms:modified>
  <cp:revision>41</cp:revision>
  <dc:subject/>
  <dc:title>Welcome Mom and Dad!</dc:title>
</cp:coreProperties>
</file>